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993-8F6F-4440-BA2F-587FC0D6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29C-CB3E-477D-86E3-0A8592A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920-C950-4B42-A2A9-19551332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5AC-78A7-415C-A275-B993AB2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4DC-BC94-49F7-9B85-023A5D39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B394-9764-4269-A74D-AD3E772D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A82F-6250-4124-8681-CC41B73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388A-16A5-4817-ACB7-40BF5B18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E99D-011E-4A5A-A152-B7833F46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43A6-ED3C-481C-B5CE-B96FEDF8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3A2-3D77-47A8-A34B-9410F0A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B67-9002-4C7A-9955-3A3071D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91D7-A653-449E-99A7-BBB27A3D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2B7-2C52-4E8D-A361-02F7CA3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01A5-6CD2-4FB9-942B-17D707C8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F671-E142-4EE6-8AF4-BF22F681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4290-D548-44A2-BEBB-19C71A43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294-BE4C-436C-950A-45B94930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4C7-0F34-4EF1-B3C8-DE6D9F5C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E4A-3285-45D3-905B-D69D4731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EA9-BB0F-4271-A17C-7DACBBA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638-7609-4EAD-AB7B-FE3F7D5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B50-EA0D-4894-AA52-C8D53F53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BE5-D2B0-4AB7-A25C-8BE419F7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4FA-6139-411A-8360-D76141002F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2D7B-EA4B-4A99-8D6D-B70DD01CFE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2057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Reserved power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orrow mone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uarantee civil rights and lib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intain Military Fo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lish cou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vy and collect tax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086600" cy="204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interstate and foreign comme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li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1981080"/>
            <a:ext cx="7086600" cy="23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ake private property for public purposes, without just compensa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ath penal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708660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atify amendments to the Constitu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9810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legat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struct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intain roa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duct Ele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tect Public Health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3619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commerce among state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0866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gulate drinking ages, marriage and divo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904760"/>
            <a:ext cx="7086600" cy="29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ight to “make all laws necessary and proper for carrying into execution” its pow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27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gulate food and drugs, build interstate highways, &amp; protect consum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0</a:t>
            </a:r>
            <a:r>
              <a:rPr b="1" lang="en-US" sz="4400" spc="-1" strike="noStrike" baseline="30000">
                <a:solidFill>
                  <a:srgbClr val="eaeaea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me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umerat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urrent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rticle I Section 8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pressed Po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0866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Coin Money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lish scho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00Z</dcterms:created>
  <dc:creator> </dc:creator>
  <dc:description/>
  <dc:language>en-US</dc:language>
  <cp:lastModifiedBy>mebner</cp:lastModifiedBy>
  <dcterms:modified xsi:type="dcterms:W3CDTF">2009-10-15T12:48:04Z</dcterms:modified>
  <cp:revision>7</cp:revision>
  <dc:subject/>
  <dc:title>Reserved powers</dc:title>
</cp:coreProperties>
</file>